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7663-96E3-4716-8D49-4840A81492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31EF-822F-4F9C-8118-E03107EC34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008-FC15-4AC2-B475-558026E8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5D6-C744-4E47-80B5-F1E27B4D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0C6-9328-4791-AD89-5F44412F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959-B85F-4B88-8B99-C7E756BA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0F6-C1B4-4979-88EF-1B147BD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FA0-4C91-41A8-91B1-5000361B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A6D-C9E7-41E0-A3BF-C59DA2AB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2F0-4619-42D7-916F-3273BDAF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970-DE77-4B8E-846C-1485193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8EA-2744-48D3-93E8-E4FF46F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92F-19B6-4D43-9CA3-511F245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E07-6E98-44FD-9E79-26DC981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52E-8ECF-4644-A92A-40F8C2E19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6T07:02:19Z</dcterms:modified>
  <cp:revision>18</cp:revision>
  <dc:subject/>
  <dc:title>PowerPoint 演示文稿</dc:title>
</cp:coreProperties>
</file>