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88DE-5A51-4000-909B-F772D5D844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663B-5A76-4E45-9DBF-3B05B7FAED8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45C-B3AC-422D-BCEA-2C38730D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C48-268F-4C5C-A77D-306ECDDF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408-DFAE-4AC3-A1B9-D785E44F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E0D-66EA-4148-BCF1-7AA26202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372-3FBB-4CF1-ABF5-1E329E5A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9E2-DB33-4C25-85C6-95C2E0DD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804-AC10-4B79-B7CF-770CF5A2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102-798F-445D-873B-4C9DFF4A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ABB-6A5E-4172-A8F9-E74AC503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2D0-D435-4219-B282-5224D43C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94B-D2B1-48EB-B570-6DF8019B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DC2-218E-401A-AD08-433C3A04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A17B-ABA8-4DEF-B809-A987AEDEF9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五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6T07:02:19Z</dcterms:modified>
  <cp:revision>18</cp:revision>
  <dc:subject/>
  <dc:title>PowerPoint 演示文稿</dc:title>
</cp:coreProperties>
</file>